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9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BA9D-7FE8-4665-8592-BF2369DE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44A1-3C9D-4AEE-B9BF-82769A6F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0F8E-985A-4A8A-9046-5DCE24B6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EDDB-54C9-4E74-BE6C-F6AA124B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323F-DFCC-4780-B546-5714C305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D610-B5D0-48EC-A60A-6EA5DFA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5E37-31A3-4000-90C8-7EEC853D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165C-C602-4208-AC4D-EDBF0113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FE5C-F6CF-40D0-B429-769369C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E1C-4E9D-4693-97BA-615B0C7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1D0-66C2-4101-B7E1-3093A795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A645-8D85-442D-BA39-9C8A301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97D0-386F-46E5-8EC4-69F35C6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291D-0D0B-497C-9A43-31A1983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42F6-B309-4D7A-8C28-AA2FA1E6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49C3-5E24-4DAF-B933-D91BDE52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A396-F9B8-4FAE-ACD2-B2F79B2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70DB-0EA8-4139-BAA6-3D0C204F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CAE4-88DD-458F-A9F9-EB0BD438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7FA5-6B47-48AA-969C-88D336D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95F7-8A17-4AAE-A7FF-06CD05C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4C7D-084D-4793-A9CB-669565B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19D4-1820-41D8-81A3-BEFF335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4D98-C563-4DE7-BF6E-8616593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1894-4361-40CE-AE47-9FED74CB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56A8-0FB1-498E-83FE-68A82889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5019-3A2A-4441-89E0-2AA2FD8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6E60-0ADA-4626-871D-CD1EB8F6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7705-DC36-4BDE-B5A4-7A59279F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B235-AEA6-47B5-AC34-C71CC068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8777-670C-40D4-9805-E5C61BC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C45A-D88B-4AB8-BE02-22D62E90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F81D-16C0-499B-AF4F-112D9715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AF68-41E5-4F51-A058-350BC9B5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7699-43EE-4DA2-AB4D-5C11B7E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AFF4-CF27-4826-96F2-1B7CA2D6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032B-D007-4E74-A3EB-D6C2B13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944B-2479-4BC7-A25A-75D1F58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D500-A40C-4BE8-B7DC-9DD0977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7263-5792-46CB-AFBB-F2E9B3A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57CC-9EF5-462E-A827-5C45B9C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F1D4-A041-4DD8-B1E6-EE26E5BB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8BFB-DADA-4805-8564-F109CC32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6C9B-F0CE-448A-9872-82B384C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D510-C01D-40D9-95A7-0CAA6DB1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DC92-4B32-47AD-88B1-50B40036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AD00-4606-4CEF-92AE-31D36563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05DF-CE69-4D55-B3B5-E826A71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AA4-747A-426B-91CA-2D83E795B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8E4B-471E-4648-8D8F-A4A5C070B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12A5-0F90-447D-BC21-53B418D9E5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D0B-F5C5-4FDC-BBE9-D30F1DDD22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a68"/>
                </a:solidFill>
                <a:latin typeface="Tahoma"/>
              </a:rPr>
              <a:t>Por: Abby Diner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752480" y="30492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bf25a"/>
                    </a:gs>
                    <a:gs pos="100000">
                      <a:srgbClr val="ff505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Tres Comidas Del Dia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bf25a"/>
                  </a:gs>
                  <a:gs pos="100000">
                    <a:srgbClr val="ff505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452680" cy="213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ara el Desayuno me gusta come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Panqueques con chocolate, un bagels con mantaquilla, el tocino, y tostadas de canela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Me gusta beber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Un leche, el agua,  jugo de naranja, y un cafe solo.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762120" y="4572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abd5ff"/>
                    </a:gs>
                  </a:gsLst>
                  <a:lin ang="5400000"/>
                </a:gradFill>
                <a:latin typeface="Papyrus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abd5ff"/>
                    </a:gs>
                  </a:gsLst>
                  <a:lin ang="5400000"/>
                </a:gradFill>
                <a:latin typeface="Papyrus"/>
              </a:rPr>
              <a:t>El Desayun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abd5ff"/>
                  </a:gs>
                </a:gsLst>
                <a:lin ang="5400000"/>
              </a:gradFill>
              <a:latin typeface="Papyrus"/>
              <a:ea typeface="Papyrus"/>
            </a:endParaRPr>
          </a:p>
        </p:txBody>
      </p:sp>
      <p:pic>
        <p:nvPicPr>
          <p:cNvPr id="213" name="Picture 7" descr="ANd9GcRhHa6igGE9zs6t9KgIhQHCiCY1OQvTYxFPvaGB1gxr32PsKS2a"/>
          <p:cNvPicPr/>
          <p:nvPr/>
        </p:nvPicPr>
        <p:blipFill>
          <a:blip r:embed="rId1"/>
          <a:stretch/>
        </p:blipFill>
        <p:spPr>
          <a:xfrm>
            <a:off x="5562720" y="5029200"/>
            <a:ext cx="1371600" cy="91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AutoShape 9"/>
          <p:cNvSpPr/>
          <p:nvPr/>
        </p:nvSpPr>
        <p:spPr>
          <a:xfrm>
            <a:off x="3581280" y="2895480"/>
            <a:ext cx="1981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77760" y="46080"/>
            <a:ext cx="198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77760" y="46080"/>
            <a:ext cx="198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20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3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3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4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4" descr="ANd9GcQ2CtSizrJ7ozBRgytQMMcgxcR4fznPWDKHwiHhuhMrc0H87Rt0"/>
          <p:cNvPicPr/>
          <p:nvPr/>
        </p:nvPicPr>
        <p:blipFill>
          <a:blip r:embed="rId2"/>
          <a:stretch/>
        </p:blipFill>
        <p:spPr>
          <a:xfrm>
            <a:off x="7162920" y="228600"/>
            <a:ext cx="1218960" cy="95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0" name="Picture 46" descr="ANd9GcQhZb6sM3BKnyMwinjAQ3AljZc2dMh9vnBUwhpWl5WaAU7WAqJZwg"/>
          <p:cNvPicPr/>
          <p:nvPr/>
        </p:nvPicPr>
        <p:blipFill>
          <a:blip r:embed="rId3"/>
          <a:stretch/>
        </p:blipFill>
        <p:spPr>
          <a:xfrm>
            <a:off x="5638680" y="350532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8" descr="ANd9GcTKPa3KQR62_MS-D45VqE8PlbgVmuP7845zKL4PQbmGi9OaMfmePA"/>
          <p:cNvPicPr/>
          <p:nvPr/>
        </p:nvPicPr>
        <p:blipFill>
          <a:blip r:embed="rId4"/>
          <a:stretch/>
        </p:blipFill>
        <p:spPr>
          <a:xfrm>
            <a:off x="7086600" y="1523880"/>
            <a:ext cx="1486080" cy="10749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4"/>
          <p:cNvSpPr/>
          <p:nvPr/>
        </p:nvSpPr>
        <p:spPr>
          <a:xfrm>
            <a:off x="3124080" y="190512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56"/>
          <p:cNvSpPr/>
          <p:nvPr/>
        </p:nvSpPr>
        <p:spPr>
          <a:xfrm>
            <a:off x="77760" y="4608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58"/>
          <p:cNvSpPr/>
          <p:nvPr/>
        </p:nvSpPr>
        <p:spPr>
          <a:xfrm>
            <a:off x="77760" y="46080"/>
            <a:ext cx="2324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60"/>
          <p:cNvSpPr/>
          <p:nvPr/>
        </p:nvSpPr>
        <p:spPr>
          <a:xfrm>
            <a:off x="77760" y="46080"/>
            <a:ext cx="28195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2" descr="ANd9GcQFhkk2Z67zE9SmqeqG95xaCGl51dh50fJtf8EqzrEHQ5GijQv3eA"/>
          <p:cNvPicPr/>
          <p:nvPr/>
        </p:nvPicPr>
        <p:blipFill>
          <a:blip r:embed="rId5"/>
          <a:stretch/>
        </p:blipFill>
        <p:spPr>
          <a:xfrm>
            <a:off x="5257800" y="152280"/>
            <a:ext cx="1690560" cy="1266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4" descr="ANd9GcRA_Cv5tMQts31kPclTug_YcHHMS4AthW-oH9gy4k_-a9ioCMs_"/>
          <p:cNvPicPr/>
          <p:nvPr/>
        </p:nvPicPr>
        <p:blipFill>
          <a:blip r:embed="rId6"/>
          <a:stretch/>
        </p:blipFill>
        <p:spPr>
          <a:xfrm>
            <a:off x="7391520" y="3124080"/>
            <a:ext cx="1177920" cy="223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6" descr="ANd9GcTGy9DDcpWF8huDvqziuVMlolwNnS8NO53R7_NcYc3rTFJQO6isFw"/>
          <p:cNvPicPr/>
          <p:nvPr/>
        </p:nvPicPr>
        <p:blipFill>
          <a:blip r:embed="rId7"/>
          <a:stretch/>
        </p:blipFill>
        <p:spPr>
          <a:xfrm>
            <a:off x="5638680" y="1600200"/>
            <a:ext cx="12128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5486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Para el almuerzo me gusta comer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Una pizza, un sandwich, </a:t>
            </a:r>
            <a:r>
              <a:rPr b="0" lang="es-ES" sz="2400" spc="-1" strike="noStrike">
                <a:solidFill>
                  <a:srgbClr val="ff5050"/>
                </a:solidFill>
                <a:latin typeface="Cambria"/>
              </a:rPr>
              <a:t>ensalada César, macarrones con queso, ensalada de pollo, y hamburguesa con queso y tocino con papas fri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me gusta beber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Cambria"/>
              </a:rPr>
              <a:t>El agua, un leche, un limonada, y </a:t>
            </a:r>
            <a:r>
              <a:rPr b="0" lang="es-ES" sz="2400" spc="-1" strike="noStrike">
                <a:solidFill>
                  <a:srgbClr val="ff5050"/>
                </a:solidFill>
                <a:latin typeface="Cambria"/>
              </a:rPr>
              <a:t>coca-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609480" y="457200"/>
            <a:ext cx="3581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565"/>
                    </a:gs>
                    <a:gs pos="100000">
                      <a:srgbClr val="ff5050"/>
                    </a:gs>
                  </a:gsLst>
                  <a:lin ang="8100000"/>
                </a:gradFill>
                <a:latin typeface="Papyrus"/>
              </a:rPr>
              <a:t>El Almuerzo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565"/>
                  </a:gs>
                  <a:gs pos="100000">
                    <a:srgbClr val="ff5050"/>
                  </a:gs>
                </a:gsLst>
                <a:lin ang="8100000"/>
              </a:gradFill>
              <a:latin typeface="Papyrus"/>
              <a:ea typeface="Papyrus"/>
            </a:endParaRPr>
          </a:p>
        </p:txBody>
      </p:sp>
      <p:pic>
        <p:nvPicPr>
          <p:cNvPr id="241" name="Picture 6" descr="ANd9GcSzGYIVjhTgQ1l6AEdj5BLWyrqXcAh96HhAsuVG2MtcUeDivf2z"/>
          <p:cNvPicPr/>
          <p:nvPr/>
        </p:nvPicPr>
        <p:blipFill>
          <a:blip r:embed="rId1"/>
          <a:stretch/>
        </p:blipFill>
        <p:spPr>
          <a:xfrm>
            <a:off x="4495680" y="228600"/>
            <a:ext cx="2257560" cy="1279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77760" y="46080"/>
            <a:ext cx="14000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77760" y="46080"/>
            <a:ext cx="1324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4"/>
          <p:cNvSpPr/>
          <p:nvPr/>
        </p:nvSpPr>
        <p:spPr>
          <a:xfrm>
            <a:off x="77760" y="46080"/>
            <a:ext cx="1324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16" descr="ANd9GcTIWS-BHdnmxKZ3WjngqI-fWyJjKCeJvV-1DD9_f2K2CGLpQP1S_w"/>
          <p:cNvPicPr/>
          <p:nvPr/>
        </p:nvPicPr>
        <p:blipFill>
          <a:blip r:embed="rId2"/>
          <a:stretch/>
        </p:blipFill>
        <p:spPr>
          <a:xfrm>
            <a:off x="6858000" y="152280"/>
            <a:ext cx="2057400" cy="13636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8"/>
          <p:cNvSpPr/>
          <p:nvPr/>
        </p:nvSpPr>
        <p:spPr>
          <a:xfrm>
            <a:off x="3657600" y="2743200"/>
            <a:ext cx="1314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20"/>
          <p:cNvSpPr/>
          <p:nvPr/>
        </p:nvSpPr>
        <p:spPr>
          <a:xfrm>
            <a:off x="3828960" y="2752560"/>
            <a:ext cx="148608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2" descr="ANd9GcSewqjyvGVggLgAN4tv1IafEokx5TkMN0w9XQvuMr0S_4F4_JPtMQ"/>
          <p:cNvPicPr/>
          <p:nvPr/>
        </p:nvPicPr>
        <p:blipFill>
          <a:blip r:embed="rId3"/>
          <a:stretch/>
        </p:blipFill>
        <p:spPr>
          <a:xfrm>
            <a:off x="7238880" y="3352680"/>
            <a:ext cx="1600200" cy="1400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4" descr="ANd9GcRuBEiEjdjUnwel6U2lXKzlBxjL1xX7FdJrqLullLXDtMiHc64Bvw"/>
          <p:cNvPicPr/>
          <p:nvPr/>
        </p:nvPicPr>
        <p:blipFill>
          <a:blip r:embed="rId4"/>
          <a:stretch/>
        </p:blipFill>
        <p:spPr>
          <a:xfrm>
            <a:off x="6324480" y="1676520"/>
            <a:ext cx="2333880" cy="15523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28"/>
          <p:cNvSpPr/>
          <p:nvPr/>
        </p:nvSpPr>
        <p:spPr>
          <a:xfrm>
            <a:off x="77760" y="46080"/>
            <a:ext cx="11714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30" descr="ANd9GcQW2ldzJ09GrVol2ob9RQPHoXpaThZ5nEiu47pE-jDErcIR8w0UEw"/>
          <p:cNvPicPr/>
          <p:nvPr/>
        </p:nvPicPr>
        <p:blipFill>
          <a:blip r:embed="rId5"/>
          <a:stretch/>
        </p:blipFill>
        <p:spPr>
          <a:xfrm>
            <a:off x="5562720" y="3429000"/>
            <a:ext cx="1322280" cy="136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2" descr="ANd9GcSJLmV19XIpaLQYCw9_Zuy87t7D3A0EN-ALpBVyOAGQxd8HABF5"/>
          <p:cNvPicPr/>
          <p:nvPr/>
        </p:nvPicPr>
        <p:blipFill>
          <a:blip r:embed="rId6"/>
          <a:stretch/>
        </p:blipFill>
        <p:spPr>
          <a:xfrm>
            <a:off x="6172200" y="4876920"/>
            <a:ext cx="19051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Harrington"/>
              </a:rPr>
              <a:t>Para la cena me gusta comer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spagehtti y albóndigas, un pollo, el mariscos, hamburguesa con queso y tocino con papas fritas, un biftec con el puré de papas, ensalada, un sopa, un pizza, y el internacionales de los alim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Me gusta beber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Harrington"/>
              </a:rPr>
              <a:t> </a:t>
            </a:r>
            <a:r>
              <a:rPr b="0" lang="es-ES" sz="2000" spc="-1" strike="noStrike">
                <a:solidFill>
                  <a:srgbClr val="660066"/>
                </a:solidFill>
                <a:latin typeface="Harrington"/>
              </a:rPr>
              <a:t>un leche, una agua, la limonada, y el refres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Rectangle 1" descr=""/>
          <p:cNvPicPr/>
          <p:nvPr/>
        </p:nvPicPr>
        <p:blipFill>
          <a:blip r:embed="rId1"/>
          <a:stretch/>
        </p:blipFill>
        <p:spPr>
          <a:xfrm>
            <a:off x="530280" y="291960"/>
            <a:ext cx="2938320" cy="1013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238880" y="76320"/>
            <a:ext cx="1803600" cy="180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3"/>
          <a:stretch/>
        </p:blipFill>
        <p:spPr>
          <a:xfrm>
            <a:off x="4419720" y="152280"/>
            <a:ext cx="2076480" cy="1549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4"/>
          <a:stretch/>
        </p:blipFill>
        <p:spPr>
          <a:xfrm>
            <a:off x="7162920" y="2133720"/>
            <a:ext cx="1746000" cy="1307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6"/>
          <a:stretch/>
        </p:blipFill>
        <p:spPr>
          <a:xfrm>
            <a:off x="7086600" y="3809880"/>
            <a:ext cx="173988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"/>
          <p:cNvPicPr/>
          <p:nvPr/>
        </p:nvPicPr>
        <p:blipFill>
          <a:blip r:embed="rId7"/>
          <a:stretch/>
        </p:blipFill>
        <p:spPr>
          <a:xfrm>
            <a:off x="5715000" y="2057400"/>
            <a:ext cx="1371600" cy="1830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"/>
          <p:cNvPicPr/>
          <p:nvPr/>
        </p:nvPicPr>
        <p:blipFill>
          <a:blip r:embed="rId8"/>
          <a:stretch/>
        </p:blipFill>
        <p:spPr>
          <a:xfrm>
            <a:off x="7315200" y="5105520"/>
            <a:ext cx="1193760" cy="1504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426708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2952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Handwriting - Dakota"/>
              </a:rPr>
              <a:t>Para me gusta comer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Handwriting - Dakota"/>
              </a:rPr>
              <a:t>masa para pastel de helado, la chocolate galleta, el pastel, las fresas cubiertas de chocolate,  celestiales hash, y los brown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Rectangle 3" descr=""/>
          <p:cNvPicPr/>
          <p:nvPr/>
        </p:nvPicPr>
        <p:blipFill>
          <a:blip r:embed="rId2"/>
          <a:stretch/>
        </p:blipFill>
        <p:spPr>
          <a:xfrm>
            <a:off x="517680" y="285840"/>
            <a:ext cx="3384360" cy="969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086600" y="609480"/>
            <a:ext cx="1847880" cy="138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4"/>
          <a:stretch/>
        </p:blipFill>
        <p:spPr>
          <a:xfrm>
            <a:off x="4267080" y="380880"/>
            <a:ext cx="2286000" cy="1516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5"/>
          <a:stretch/>
        </p:blipFill>
        <p:spPr>
          <a:xfrm>
            <a:off x="6705720" y="259092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6"/>
          <a:stretch/>
        </p:blipFill>
        <p:spPr>
          <a:xfrm>
            <a:off x="4267080" y="220968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"/>
          <p:cNvPicPr/>
          <p:nvPr/>
        </p:nvPicPr>
        <p:blipFill>
          <a:blip r:embed="rId7"/>
          <a:stretch/>
        </p:blipFill>
        <p:spPr>
          <a:xfrm>
            <a:off x="6934320" y="4343400"/>
            <a:ext cx="1904760" cy="151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8"/>
          <a:stretch/>
        </p:blipFill>
        <p:spPr>
          <a:xfrm>
            <a:off x="4114800" y="4343400"/>
            <a:ext cx="2133720" cy="1563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3504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Papyrus"/>
              </a:rPr>
              <a:t>Para me  gusta comer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Papyrus"/>
              </a:rPr>
              <a:t>papas fritas, </a:t>
            </a:r>
            <a:r>
              <a:rPr b="1" lang="es-ES" sz="2800" spc="-1" strike="noStrike">
                <a:solidFill>
                  <a:srgbClr val="ff7c80"/>
                </a:solidFill>
                <a:latin typeface="Papyrus"/>
              </a:rPr>
              <a:t>las palomitas de maíz, las galletas, el helado, el bagel picaduras, y el</a:t>
            </a:r>
            <a:br>
              <a:rPr sz="2800"/>
            </a:br>
            <a:r>
              <a:rPr b="1" lang="es-ES" sz="2800" spc="-1" strike="noStrike">
                <a:solidFill>
                  <a:srgbClr val="ff7c80"/>
                </a:solidFill>
                <a:latin typeface="Papyrus"/>
              </a:rPr>
              <a:t>aros de ceboll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228600"/>
            <a:ext cx="3733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00ffff"/>
                    </a:gs>
                  </a:gsLst>
                  <a:lin ang="8100000"/>
                </a:gradFill>
                <a:latin typeface="Bradley Hand ITC"/>
              </a:rPr>
              <a:t>Las Meriend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00ffff"/>
                  </a:gs>
                </a:gsLst>
                <a:lin ang="8100000"/>
              </a:gradFill>
              <a:latin typeface="Bradley Hand ITC"/>
              <a:ea typeface="Bradley Hand ITC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448080" y="2457360"/>
            <a:ext cx="2247840" cy="1943280"/>
            <a:chOff x="3448080" y="2457360"/>
            <a:chExt cx="2247840" cy="1943280"/>
          </a:xfrm>
        </p:grpSpPr>
        <p:sp>
          <p:nvSpPr>
            <p:cNvPr id="274" name=""/>
            <p:cNvSpPr txBox="1"/>
            <p:nvPr/>
          </p:nvSpPr>
          <p:spPr>
            <a:xfrm>
              <a:off x="3448080" y="2457360"/>
              <a:ext cx="224784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52760" y="2457360"/>
            <a:ext cx="2238480" cy="1943280"/>
            <a:chOff x="3452760" y="2457360"/>
            <a:chExt cx="2238480" cy="1943280"/>
          </a:xfrm>
        </p:grpSpPr>
        <p:sp>
          <p:nvSpPr>
            <p:cNvPr id="276" name=""/>
            <p:cNvSpPr txBox="1"/>
            <p:nvPr/>
          </p:nvSpPr>
          <p:spPr>
            <a:xfrm>
              <a:off x="3452760" y="2457360"/>
              <a:ext cx="2238480" cy="19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2057400" cy="1282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400800" y="1905120"/>
            <a:ext cx="200988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567240" y="2867040"/>
            <a:ext cx="2009520" cy="1123920"/>
            <a:chOff x="3567240" y="2867040"/>
            <a:chExt cx="2009520" cy="1123920"/>
          </a:xfrm>
        </p:grpSpPr>
        <p:sp>
          <p:nvSpPr>
            <p:cNvPr id="281" name=""/>
            <p:cNvSpPr txBox="1"/>
            <p:nvPr/>
          </p:nvSpPr>
          <p:spPr>
            <a:xfrm>
              <a:off x="3567240" y="2867040"/>
              <a:ext cx="2009520" cy="112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191120" y="2970360"/>
            <a:ext cx="1600200" cy="1373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705720" y="3733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2819520" y="4952880"/>
            <a:ext cx="315252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4" descr=""/>
          <p:cNvPicPr/>
          <p:nvPr/>
        </p:nvPicPr>
        <p:blipFill>
          <a:blip r:embed="rId2"/>
          <a:stretch/>
        </p:blipFill>
        <p:spPr>
          <a:xfrm>
            <a:off x="3462480" y="987480"/>
            <a:ext cx="2292120" cy="324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06Z</dcterms:created>
  <dc:creator>dinermanabi</dc:creator>
  <dc:description/>
  <dc:language>en-US</dc:language>
  <cp:lastModifiedBy>dinermanabi</cp:lastModifiedBy>
  <dcterms:modified xsi:type="dcterms:W3CDTF">2011-04-14T14:52:28Z</dcterms:modified>
  <cp:revision>10</cp:revision>
  <dc:subject/>
  <dc:title>Slide 1</dc:title>
</cp:coreProperties>
</file>